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E0E7-0131-4C97-A1C7-6FCB4CDA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41D-0328-4AA9-AF8A-0EA6EAB5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82D4-4C1C-43CE-9C67-4862DE45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95EC-E9D6-437F-B274-34CAD77A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385C-16A1-40F7-BFD8-6E1767FC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2937-E8BE-44A8-85E8-C92649F3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FA2C-B96F-4BFB-8D3D-704F7444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1E0E-1586-46B7-86A6-3CDA2600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DD28-E79C-4082-A0AF-ACA03515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2B49-7E97-4208-B0CC-D953C550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4F6F-6928-459D-ABA7-19E325A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C5E-E0EA-4E6A-8B14-B6DE0DE5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5F04D-A783-45B4-9409-4B692E5C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0A76-9512-4E13-88EC-2882F64A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D41F-4E42-44AF-9C33-45DC4ACF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2803-81A1-4A91-BCF7-EFF833E8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DE87-1571-44C0-93DA-77B539DB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A6C-7B54-49A5-83BE-DC12A03A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1D3-EB86-4BE2-8637-C9C9FFDA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B4F8-5077-47FB-9E96-B77D6D34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6222-6D3B-4F87-9C59-0D6AAFEF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212A-77AE-4402-9DFD-423566B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C42-F761-42FC-B846-3C3B0002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6B09-0987-481B-9845-40292A5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4953-3498-4E0B-BF84-BAAB7D02FBB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A695-BC50-44A2-9D4A-0117981A40E5}" type="slidenum">
              <a:rPr b="0" lang="pt-BR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cc00"/>
                </a:solidFill>
                <a:latin typeface="Tahoma"/>
              </a:rPr>
              <a:t>Drogas depressoras do SNC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00ff00"/>
                </a:solidFill>
                <a:latin typeface="Tahoma"/>
              </a:rPr>
              <a:t>Regina Jul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Efeitos%20do%20alcool%2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165240"/>
            <a:ext cx="7467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Tahoma"/>
              </a:rPr>
              <a:t>Drogas depressoras do SNC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42640" y="1904760"/>
            <a:ext cx="6705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Álcool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Narcótico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Sedativos e tranqüilizante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66ff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nalantes, Solventes ou Voláteis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Álcoo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  <a:ea typeface="Arial"/>
              </a:rPr>
              <a:t>“</a:t>
            </a:r>
            <a:r>
              <a:rPr b="0" i="1" lang="en-US" sz="4800" spc="-1" strike="noStrike">
                <a:solidFill>
                  <a:srgbClr val="ff33cc"/>
                </a:solidFill>
                <a:latin typeface="Arial"/>
                <a:ea typeface="Arial"/>
              </a:rPr>
              <a:t>Alcoolismo é a perda da liberdade de beber.”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Arial"/>
                <a:ea typeface="Arial"/>
              </a:rPr>
              <a:t>Ele afeta o funcionamento dos rins, fígado, coração e cérebro, provocando lesões significantes. Um dos maiores problemas do álcool é o uso por gestantes. A mulher alcoólatra, mesmo que pare de beber na gravidez, se tiver feito uso do álcool três meses antes da fertilização do óvulo, poderá comprometer a inteligência, o desenvolvimento motor, o peso e até provocar má formações genéticas no fe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racteriza-se po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lsã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erda de cont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ência fí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lerâ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lcoolism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Num primeiro momento, em quantidades reduzidas, o álcool inibe a censura interna, derrubando o autocontrole e a autocrítica. É a fase em que o bebedor fica “alegrinho” e falant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Inseguros, tímidos, angustiados ou ansiosos para entrar na vida adulta, os jovens descobrem logo que uma latinha de cerveja</a:t>
            </a: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	</a:t>
            </a: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é uma boa ajuda para convidar aquela garota para dançar ou “ficar” com um carinha cobiçado numa fes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cc00"/>
                </a:solidFill>
                <a:latin typeface="Arial"/>
                <a:ea typeface="Arial"/>
              </a:rPr>
              <a:t>Muitos jovens ingerem álcool para ter coragem de entrar no mundo adul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uidado!..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172404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Acerte%20a%20medida..." descr=""/>
          <p:cNvPicPr/>
          <p:nvPr/>
        </p:nvPicPr>
        <p:blipFill>
          <a:blip r:embed="rId2"/>
          <a:srcRect l="0" t="11112" r="2059" b="0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  <a:ea typeface="Arial"/>
              </a:rPr>
              <a:t>Ainda que seja contravenção penal fornecer álcool a menores de idade, inclusive dentro de casa, pode parecer até absurdo recriminar um pai que serve uma cervejinha a seu filho de 16, 17 an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ff00"/>
                </a:solidFill>
                <a:latin typeface="Arial"/>
                <a:ea typeface="Arial"/>
              </a:rPr>
              <a:t>Em boa parte das famílias, esse hábito está incorporado à cultura nacional - e mesmo em países onde a lei é cumprida ao pé da letra, como nos Estados Unidos, a garotada enche a cara em festas particular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Como o consumo adolescente é socialmente aceito, fica difícil saber quando um jovem está bebendo além da con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A preocupação só aparece quando se vêem as conseqüência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Arial"/>
              </a:rPr>
              <a:t>Na versão inofensiva, uma bebedeira homérica é apenas uma história divertida. O problema é que muitas vezes um único excesso pode acabar em graves acidentes de carro, em relações sexuais sem preservativo e em todos esses pesadelos que costumam acometer a maioria dos pais nas noites de sába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3T15:31:15Z</dcterms:created>
  <dc:creator>Carlos &amp; Regina</dc:creator>
  <dc:description/>
  <dc:language>en-US</dc:language>
  <cp:lastModifiedBy>LEO</cp:lastModifiedBy>
  <dcterms:modified xsi:type="dcterms:W3CDTF">2000-09-07T12:44:52Z</dcterms:modified>
  <cp:revision>8</cp:revision>
  <dc:subject/>
  <dc:title>Drogas depressoras do SNC</dc:title>
</cp:coreProperties>
</file>